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8084-D635-42D2-B85D-FC59BE204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60C5-05C4-41DF-A73F-7C6DD79FC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9F0C-77C0-478C-947A-61A0E2A0A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FB31-FA3D-4EF5-9895-08D41D359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BAC3-FCBB-49DD-BD48-24040F94C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18C4-6E7A-420D-889D-C64E73D1E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30A0-A5A5-47EE-A2C1-8771FF0DF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C043-C3FA-4ACE-920B-773F093CF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E260-7648-46DA-B0EB-1BF818432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CA28-5364-4023-8DE6-A47BA8EA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8E80-805E-4337-8840-4F9083A1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B4F4-780A-4A17-9F8B-AE81DD2E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A36EE-99FF-4CDC-8778-5A89691DF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5807" r="0" b="0"/>
          <a:stretch/>
        </p:blipFill>
        <p:spPr>
          <a:xfrm>
            <a:off x="1627200" y="0"/>
            <a:ext cx="5398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Pierre-Auguste Renoir. At the Inn of Mother Anthony."/>
          <p:cNvPicPr/>
          <p:nvPr/>
        </p:nvPicPr>
        <p:blipFill>
          <a:blip r:embed="rId1"/>
          <a:stretch/>
        </p:blipFill>
        <p:spPr>
          <a:xfrm>
            <a:off x="2317680" y="0"/>
            <a:ext cx="4508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Pierre-Auguste Renoir. A Morning Ride in the Bois de Boulogne."/>
          <p:cNvPicPr/>
          <p:nvPr/>
        </p:nvPicPr>
        <p:blipFill>
          <a:blip r:embed="rId1"/>
          <a:stretch/>
        </p:blipFill>
        <p:spPr>
          <a:xfrm>
            <a:off x="1947960" y="338040"/>
            <a:ext cx="5248080" cy="618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18:41:26Z</dcterms:created>
  <dc:creator>Patrick J. Mooney</dc:creator>
  <dc:description/>
  <dc:language>en-US</dc:language>
  <cp:lastModifiedBy>Patrick J. Mooney</cp:lastModifiedBy>
  <dcterms:modified xsi:type="dcterms:W3CDTF">2010-04-22T14:33:48Z</dcterms:modified>
  <cp:revision>4</cp:revision>
  <dc:subject/>
  <dc:title>Slide 1</dc:title>
</cp:coreProperties>
</file>